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8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png" ContentType="image/png"/>
  <Override PartName="/ppt/media/image14.wmf" ContentType="image/x-wmf"/>
  <Override PartName="/ppt/media/image27.jpeg" ContentType="image/jpeg"/>
  <Override PartName="/ppt/media/image16.wmf" ContentType="image/x-wmf"/>
  <Override PartName="/ppt/media/image4.jpeg" ContentType="image/jpeg"/>
  <Override PartName="/ppt/media/image24.jpeg" ContentType="image/jpeg"/>
  <Override PartName="/ppt/media/image19.jpeg" ContentType="image/jpeg"/>
  <Override PartName="/ppt/media/image22.wmf" ContentType="image/x-wmf"/>
  <Override PartName="/ppt/media/image21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25.wmf" ContentType="image/x-wm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152063" cy="758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E86-1D41-436F-82CA-662427A4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121A-7B02-4C9E-B397-6C225BE9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265-ABDF-43B2-AC4D-C44B1071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D42-61D3-47BC-86BB-425DDB20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BBD7-AA0B-465F-B083-F191A95E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5334-DFD7-49E2-809B-820BE692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3A40-FE00-4F66-939B-6A3E187B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A386-BD1A-4AE0-9A2D-75EA8FC8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E966-202E-46F6-B6B8-5BA3571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5718-F304-417E-962D-9363842B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DA55-E820-47C1-A54E-6617B984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39D-DBA0-444F-819D-08EEC674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5A75-C791-431D-AE39-7FC5929A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F27A-B963-4372-95B0-0ECDE7B4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93C6-A2AF-458F-9E99-21D9163C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FF5-A59F-4F07-807A-9D4DDF26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5104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7520" y="152388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5104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7520" y="4251960"/>
            <a:ext cx="309132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9EB-8A82-462D-8A80-DD499A40A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0B4-A7F1-4D4E-B57A-779764BF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4DE-21AD-4FD2-B44F-74B1F5BB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1D8-F7C9-42B9-BB04-527F2B6E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1912-5406-40D8-8870-6BB2C4C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FCB-1108-4055-B670-860574A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24680" y="425196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67B-5E9B-47F5-82A5-77738E1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24680" y="1523880"/>
            <a:ext cx="468504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251960"/>
            <a:ext cx="9601200" cy="2491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519-ED87-4560-B9DD-AF6AE406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317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6840" indent="-252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7336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81320" indent="-254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15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68600" y="6915240"/>
            <a:ext cx="321336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3800" y="6915240"/>
            <a:ext cx="2114640" cy="506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717360C8-A0BD-42D1-8290-DC28B981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720" y="1905120"/>
            <a:ext cx="678168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62120" y="6933960"/>
            <a:ext cx="213336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505320" y="69339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520" y="69339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lstStyle>
            <a:lvl1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fld id="{AE1F6A1D-A84A-4315-85D7-C5B6C9346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507600" y="1775520"/>
            <a:ext cx="9136440" cy="44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0" algn="ctr"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4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1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271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124080" y="5548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y of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a D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22800" y="1890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89080" y="1433520"/>
            <a:ext cx="7620120" cy="5850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846680" y="1662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O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M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84160" y="1509840"/>
            <a:ext cx="82296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Processe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9600" y="1662120"/>
            <a:ext cx="90676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027160" y="1357200"/>
            <a:ext cx="5583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84160" y="1433520"/>
            <a:ext cx="4859280" cy="303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218280" y="1814400"/>
            <a:ext cx="3171960" cy="5062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874880" y="4786200"/>
            <a:ext cx="3645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89080" y="1433520"/>
            <a:ext cx="769608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epara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4160" y="1433520"/>
            <a:ext cx="853452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Col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08200" y="1814400"/>
            <a:ext cx="86868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Col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3280" y="128124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484360" y="1281240"/>
            <a:ext cx="44499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et Ear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 Tect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In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51600" y="1662120"/>
            <a:ext cx="4559040" cy="5334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03280" y="1662120"/>
            <a:ext cx="44053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494000" y="1052640"/>
            <a:ext cx="71992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69960" y="1446120"/>
            <a:ext cx="678204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Sli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9601200" cy="57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3.5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not felt, but recor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5-5.4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felt, but rarely causes dam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6.0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most slight damage to well-design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1-6.9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structive in areas up to abo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kilometer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0-7.9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arthquake. Can cause seri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over larger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9440" indent="-379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or greater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earthquake. Can cause seri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mage in areas several hund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lometers acro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arth’s Inter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417680" y="1276200"/>
            <a:ext cx="6934320" cy="61772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69960" y="135720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u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8-64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d &amp; frag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anite and Basa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9960" y="28051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800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ot &amp; mol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gnesium and Sili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69960" y="4253040"/>
            <a:ext cx="176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2000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3 - 40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iquid Nickel and I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69960" y="5776920"/>
            <a:ext cx="160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er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1400 km th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5 - 6000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l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ckel and I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13640" y="633240"/>
            <a:ext cx="16002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13640" y="785880"/>
            <a:ext cx="1600200" cy="571320"/>
          </a:xfrm>
          <a:custGeom>
            <a:avLst/>
            <a:gdLst/>
            <a:ahLst/>
            <a:rect l="l" t="t" r="r" b="b"/>
            <a:pathLst>
              <a:path w="2520" h="900">
                <a:moveTo>
                  <a:pt x="0" y="0"/>
                </a:moveTo>
                <a:cubicBezTo>
                  <a:pt x="420" y="105"/>
                  <a:pt x="840" y="210"/>
                  <a:pt x="1260" y="360"/>
                </a:cubicBezTo>
                <a:cubicBezTo>
                  <a:pt x="1680" y="510"/>
                  <a:pt x="2100" y="705"/>
                  <a:pt x="2520" y="9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75640" y="1128600"/>
            <a:ext cx="1304640" cy="571680"/>
          </a:xfrm>
          <a:custGeom>
            <a:avLst/>
            <a:gdLst/>
            <a:ahLst/>
            <a:rect l="l" t="t" r="r" b="b"/>
            <a:pathLst>
              <a:path w="2055" h="900">
                <a:moveTo>
                  <a:pt x="2055" y="885"/>
                </a:moveTo>
                <a:cubicBezTo>
                  <a:pt x="1998" y="799"/>
                  <a:pt x="1922" y="739"/>
                  <a:pt x="1845" y="675"/>
                </a:cubicBezTo>
                <a:cubicBezTo>
                  <a:pt x="1770" y="613"/>
                  <a:pt x="1834" y="641"/>
                  <a:pt x="1755" y="615"/>
                </a:cubicBezTo>
                <a:cubicBezTo>
                  <a:pt x="1707" y="567"/>
                  <a:pt x="1716" y="566"/>
                  <a:pt x="1650" y="540"/>
                </a:cubicBezTo>
                <a:cubicBezTo>
                  <a:pt x="1621" y="528"/>
                  <a:pt x="1586" y="528"/>
                  <a:pt x="1560" y="510"/>
                </a:cubicBezTo>
                <a:cubicBezTo>
                  <a:pt x="1498" y="469"/>
                  <a:pt x="1532" y="484"/>
                  <a:pt x="1455" y="465"/>
                </a:cubicBezTo>
                <a:cubicBezTo>
                  <a:pt x="1440" y="450"/>
                  <a:pt x="1420" y="439"/>
                  <a:pt x="1410" y="420"/>
                </a:cubicBezTo>
                <a:cubicBezTo>
                  <a:pt x="1373" y="353"/>
                  <a:pt x="1398" y="333"/>
                  <a:pt x="1350" y="285"/>
                </a:cubicBezTo>
                <a:cubicBezTo>
                  <a:pt x="1314" y="249"/>
                  <a:pt x="1280" y="247"/>
                  <a:pt x="1230" y="240"/>
                </a:cubicBezTo>
                <a:cubicBezTo>
                  <a:pt x="1115" y="225"/>
                  <a:pt x="1000" y="209"/>
                  <a:pt x="885" y="195"/>
                </a:cubicBezTo>
                <a:cubicBezTo>
                  <a:pt x="706" y="135"/>
                  <a:pt x="524" y="90"/>
                  <a:pt x="345" y="30"/>
                </a:cubicBezTo>
                <a:cubicBezTo>
                  <a:pt x="306" y="17"/>
                  <a:pt x="264" y="13"/>
                  <a:pt x="225" y="0"/>
                </a:cubicBezTo>
                <a:cubicBezTo>
                  <a:pt x="103" y="14"/>
                  <a:pt x="65" y="7"/>
                  <a:pt x="0" y="105"/>
                </a:cubicBezTo>
                <a:cubicBezTo>
                  <a:pt x="5" y="140"/>
                  <a:pt x="8" y="175"/>
                  <a:pt x="15" y="210"/>
                </a:cubicBezTo>
                <a:cubicBezTo>
                  <a:pt x="18" y="226"/>
                  <a:pt x="17" y="246"/>
                  <a:pt x="30" y="255"/>
                </a:cubicBezTo>
                <a:cubicBezTo>
                  <a:pt x="56" y="273"/>
                  <a:pt x="90" y="275"/>
                  <a:pt x="120" y="285"/>
                </a:cubicBezTo>
                <a:cubicBezTo>
                  <a:pt x="135" y="290"/>
                  <a:pt x="165" y="300"/>
                  <a:pt x="165" y="300"/>
                </a:cubicBezTo>
                <a:cubicBezTo>
                  <a:pt x="228" y="363"/>
                  <a:pt x="272" y="441"/>
                  <a:pt x="300" y="525"/>
                </a:cubicBezTo>
                <a:cubicBezTo>
                  <a:pt x="285" y="644"/>
                  <a:pt x="287" y="658"/>
                  <a:pt x="210" y="735"/>
                </a:cubicBezTo>
                <a:cubicBezTo>
                  <a:pt x="205" y="750"/>
                  <a:pt x="198" y="764"/>
                  <a:pt x="195" y="780"/>
                </a:cubicBezTo>
                <a:cubicBezTo>
                  <a:pt x="188" y="820"/>
                  <a:pt x="180" y="900"/>
                  <a:pt x="180" y="900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42160" y="7858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284960" y="1357200"/>
            <a:ext cx="57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27760" y="9000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61280" y="181440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46680" y="74772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DR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52000" y="74772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99160" y="976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99360" y="900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742160" y="1585800"/>
            <a:ext cx="1144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6880" y="128124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370560" y="67140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675480" y="166212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51800" y="166176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70560" y="166176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ck Cyc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51000" y="1509840"/>
            <a:ext cx="9524880" cy="5383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064040" y="1890720"/>
            <a:ext cx="1620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66200" y="3948120"/>
            <a:ext cx="1981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11560" y="6195960"/>
            <a:ext cx="2701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DI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600" y="4176720"/>
            <a:ext cx="2882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MOR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23200" y="2500200"/>
            <a:ext cx="198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ls and ha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980400" y="5472000"/>
            <a:ext cx="198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s, erodes, and depo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8200" y="5548320"/>
            <a:ext cx="19810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es or h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417680" y="2500200"/>
            <a:ext cx="198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s and me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ambrian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98360" y="3262320"/>
          <a:ext cx="9742680" cy="27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3262320"/>
                    <a:ext cx="9742680" cy="27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041080" y="2988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lc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56360" y="4443480"/>
            <a:ext cx="2057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36800" y="505296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ent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37120" y="52434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56360" y="4481640"/>
            <a:ext cx="7632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37200" y="3414600"/>
            <a:ext cx="2133360" cy="2362320"/>
          </a:xfrm>
          <a:custGeom>
            <a:avLst/>
            <a:gdLst/>
            <a:ahLst/>
            <a:rect l="l" t="t" r="r" b="b"/>
            <a:pathLst>
              <a:path w="1344" h="1488">
                <a:moveTo>
                  <a:pt x="288" y="1488"/>
                </a:moveTo>
                <a:lnTo>
                  <a:pt x="576" y="1008"/>
                </a:lnTo>
                <a:lnTo>
                  <a:pt x="672" y="960"/>
                </a:lnTo>
                <a:lnTo>
                  <a:pt x="960" y="1008"/>
                </a:lnTo>
                <a:lnTo>
                  <a:pt x="1248" y="1056"/>
                </a:lnTo>
                <a:lnTo>
                  <a:pt x="1296" y="960"/>
                </a:lnTo>
                <a:lnTo>
                  <a:pt x="912" y="912"/>
                </a:lnTo>
                <a:lnTo>
                  <a:pt x="768" y="912"/>
                </a:lnTo>
                <a:lnTo>
                  <a:pt x="624" y="864"/>
                </a:lnTo>
                <a:lnTo>
                  <a:pt x="624" y="768"/>
                </a:lnTo>
                <a:lnTo>
                  <a:pt x="768" y="480"/>
                </a:lnTo>
                <a:lnTo>
                  <a:pt x="816" y="480"/>
                </a:lnTo>
                <a:lnTo>
                  <a:pt x="1008" y="480"/>
                </a:lnTo>
                <a:lnTo>
                  <a:pt x="1056" y="480"/>
                </a:lnTo>
                <a:lnTo>
                  <a:pt x="1344" y="528"/>
                </a:lnTo>
                <a:lnTo>
                  <a:pt x="1344" y="432"/>
                </a:lnTo>
                <a:lnTo>
                  <a:pt x="960" y="432"/>
                </a:lnTo>
                <a:lnTo>
                  <a:pt x="960" y="384"/>
                </a:lnTo>
                <a:lnTo>
                  <a:pt x="1200" y="144"/>
                </a:lnTo>
                <a:lnTo>
                  <a:pt x="1104" y="96"/>
                </a:lnTo>
                <a:lnTo>
                  <a:pt x="960" y="288"/>
                </a:lnTo>
                <a:lnTo>
                  <a:pt x="816" y="384"/>
                </a:lnTo>
                <a:lnTo>
                  <a:pt x="960" y="96"/>
                </a:lnTo>
                <a:lnTo>
                  <a:pt x="960" y="0"/>
                </a:lnTo>
                <a:lnTo>
                  <a:pt x="864" y="48"/>
                </a:lnTo>
                <a:lnTo>
                  <a:pt x="816" y="96"/>
                </a:lnTo>
                <a:lnTo>
                  <a:pt x="672" y="336"/>
                </a:lnTo>
                <a:lnTo>
                  <a:pt x="624" y="432"/>
                </a:lnTo>
                <a:lnTo>
                  <a:pt x="576" y="384"/>
                </a:lnTo>
                <a:lnTo>
                  <a:pt x="528" y="288"/>
                </a:lnTo>
                <a:lnTo>
                  <a:pt x="480" y="288"/>
                </a:lnTo>
                <a:lnTo>
                  <a:pt x="384" y="288"/>
                </a:lnTo>
                <a:lnTo>
                  <a:pt x="336" y="336"/>
                </a:lnTo>
                <a:lnTo>
                  <a:pt x="288" y="432"/>
                </a:lnTo>
                <a:lnTo>
                  <a:pt x="288" y="480"/>
                </a:lnTo>
                <a:lnTo>
                  <a:pt x="144" y="480"/>
                </a:lnTo>
                <a:lnTo>
                  <a:pt x="96" y="528"/>
                </a:lnTo>
                <a:lnTo>
                  <a:pt x="192" y="528"/>
                </a:lnTo>
                <a:lnTo>
                  <a:pt x="288" y="576"/>
                </a:lnTo>
                <a:lnTo>
                  <a:pt x="576" y="528"/>
                </a:lnTo>
                <a:lnTo>
                  <a:pt x="624" y="576"/>
                </a:lnTo>
                <a:lnTo>
                  <a:pt x="576" y="672"/>
                </a:lnTo>
                <a:lnTo>
                  <a:pt x="528" y="768"/>
                </a:lnTo>
                <a:lnTo>
                  <a:pt x="480" y="864"/>
                </a:lnTo>
                <a:lnTo>
                  <a:pt x="480" y="912"/>
                </a:lnTo>
                <a:lnTo>
                  <a:pt x="432" y="1008"/>
                </a:lnTo>
                <a:lnTo>
                  <a:pt x="336" y="1008"/>
                </a:lnTo>
                <a:lnTo>
                  <a:pt x="192" y="912"/>
                </a:lnTo>
                <a:lnTo>
                  <a:pt x="144" y="864"/>
                </a:lnTo>
                <a:lnTo>
                  <a:pt x="48" y="864"/>
                </a:lnTo>
                <a:lnTo>
                  <a:pt x="0" y="912"/>
                </a:lnTo>
                <a:lnTo>
                  <a:pt x="48" y="912"/>
                </a:lnTo>
                <a:lnTo>
                  <a:pt x="144" y="960"/>
                </a:lnTo>
                <a:lnTo>
                  <a:pt x="240" y="1008"/>
                </a:lnTo>
                <a:lnTo>
                  <a:pt x="384" y="1056"/>
                </a:lnTo>
                <a:lnTo>
                  <a:pt x="432" y="1056"/>
                </a:lnTo>
                <a:lnTo>
                  <a:pt x="384" y="1152"/>
                </a:lnTo>
                <a:lnTo>
                  <a:pt x="192" y="1440"/>
                </a:lnTo>
                <a:lnTo>
                  <a:pt x="192" y="1488"/>
                </a:lnTo>
                <a:lnTo>
                  <a:pt x="288" y="148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675480" y="1204920"/>
            <a:ext cx="31366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le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8360" y="3262320"/>
          <a:ext cx="978372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3262320"/>
                    <a:ext cx="97837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618080" y="497664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70160" y="31860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7760" y="337644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1880" y="4481640"/>
            <a:ext cx="1646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680" y="4367160"/>
            <a:ext cx="17524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94520" y="3795840"/>
            <a:ext cx="26676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931920" y="3567240"/>
            <a:ext cx="304920" cy="266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809200" y="4862160"/>
            <a:ext cx="45720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51200" y="4404960"/>
            <a:ext cx="3045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s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840" y="3338640"/>
          <a:ext cx="9783720" cy="26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40" y="3338640"/>
                    <a:ext cx="97837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4389480" y="3338640"/>
            <a:ext cx="2057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427960" y="402444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8360" y="4329000"/>
            <a:ext cx="1676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4786200"/>
            <a:ext cx="187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84560" y="4786200"/>
            <a:ext cx="2057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9113400" y="4481640"/>
            <a:ext cx="30492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79600" y="4862520"/>
            <a:ext cx="53316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589880" y="448164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03320" y="3795840"/>
            <a:ext cx="106668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logic Histor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9440" indent="-37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nozoic 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65240" y="3290760"/>
          <a:ext cx="9821880" cy="225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240" y="3290760"/>
                    <a:ext cx="98218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1036800" y="4176720"/>
            <a:ext cx="2514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F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51600" y="5167440"/>
            <a:ext cx="2765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eous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32680" y="29574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 Mountains Er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89280" y="4329000"/>
            <a:ext cx="2514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imentary 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080" y="4938840"/>
            <a:ext cx="1523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60480" y="51674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Y MOU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41560" y="5396040"/>
            <a:ext cx="201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IOR PL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23000" y="5776920"/>
            <a:ext cx="226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IAN SH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04080" y="4633920"/>
            <a:ext cx="301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ALACHIAN MOUNT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32880" y="5243400"/>
            <a:ext cx="141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399440" y="4138560"/>
            <a:ext cx="250560" cy="114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37800" y="4253040"/>
            <a:ext cx="250560" cy="11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332080" y="3871440"/>
            <a:ext cx="324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65400" y="1509840"/>
            <a:ext cx="76960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189080" y="1204920"/>
            <a:ext cx="774684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te Tectonics - Continental Drif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9601200" cy="5222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51000" y="1585800"/>
            <a:ext cx="9372600" cy="499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745080" y="6873840"/>
            <a:ext cx="216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ar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79800" y="1128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NTINENT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8:59:57Z</dcterms:created>
  <dc:creator>Craig I.W. Marlatt</dc:creator>
  <dc:description/>
  <cp:keywords/>
  <dc:language>en-US</dc:language>
  <cp:lastModifiedBy>OCDSB User</cp:lastModifiedBy>
  <dcterms:modified xsi:type="dcterms:W3CDTF">2011-02-11T16:56:44Z</dcterms:modified>
  <cp:revision>1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11033</vt:lpwstr>
  </property>
</Properties>
</file>